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78A-8B45-4259-AD8C-F2511134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F49-183C-4A7E-9BD4-8D1515E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CC9-4ABF-449F-9992-74546647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BB5-4304-48AF-872A-D75CDA6E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D69C-7659-49A2-94F9-8EA14A33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A1B6-8DE1-49A3-95B8-DA36CF9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E35-BBD1-4E74-BE59-9F19A8D4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BAD-31DC-486D-BD41-C292A522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A828-B26D-441D-BC05-39B7E26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890-DE8D-4CD6-95C7-EEC22712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EBE-6272-4F43-9A26-31AB831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BC7-66C2-43A3-B089-BF159B0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9E4D-DBAE-4F0F-86CA-29270B6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67F6-9984-4382-9727-3024D57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8CC0-81BC-4B97-9B46-513F9DF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9B11-FAA8-4E5D-9CAC-AF4A40CA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C20-8EF1-47B4-903B-F602553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724-B044-4755-859B-4C99189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7A0-CD33-4F03-BCFC-7DC9AD9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4FD-621F-43BA-8EAC-1FB20D95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BFD-6823-43C7-A315-BC7325D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244-8B38-4A7E-A17F-2D72F0F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B08-DB51-4666-81EB-A86C06E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5B2-F7B7-4D66-BD1D-984B51C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1EBB-D2B2-4216-85E8-A7CE78D8D5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44A-087A-469F-AC30-7F6FE1E23B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6: Programació Avança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Estabili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ool de connex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rogramació orientada a objec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rogramació avançada amb herència, genèrics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Multiplatafor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Cross-Brow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4: Anàlisi i disse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1.- Conèixer al teu ene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Bona comprensió del cl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aciència (la mare de la ciènc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Adaptació als requis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Millora dels mínims desitjats (amb consentiment del cli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Assessorament i suggeriments al cl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Treball i organització en gr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air Programm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Documentació detallada i compren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3 i 7: Base de da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1.- La informació es po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Seguret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Integritat referen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Atomicit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Divisió de concep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Accions en cas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Coherència de les 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Restricc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Fàcil transport a objec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Po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Indexaci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Motor gratuït i lli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6832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8: Eines CASE i 4G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1.- Manipulem el po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Facilitat d’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Amig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Es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Fun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lataforma 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5118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8: Eines CASE i 4G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Exportació a altres programes (software exter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Seguretat en l’ac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Desenvolupat en </a:t>
            </a:r>
            <a:br>
              <a:rPr sz="2000"/>
            </a:b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 sistemes mod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Adaptable a nous canvis </a:t>
            </a:r>
            <a:br>
              <a:rPr sz="2000"/>
            </a:b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 de la base de 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5040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Crèdit 9: Disseny i programació we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1.- La mona no es tan llet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Disseny seriós i elega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Accessibilit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Usabilit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Diferents esti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Disseny líqui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Disseny independ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ffffff"/>
                </a:solidFill>
                <a:latin typeface="Tahoma"/>
              </a:rPr>
              <a:t>· Multiplatafor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9334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Crèdit 9: Disseny i programació we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2.- &lt;?php echo “La codificació”; ?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Adaptació als estàndar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Fàcilment ampli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Disseny separat en cap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Patró de disseny MV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Programació orientada a objec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· Contingut dinàm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Crèdit 9: Disseny i programació we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Bona presencia en buscad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Bona estructuració del conting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Cross-Brow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ensat per AJA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Utilització de Google ma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Segure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Optimitzaci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rèdit 6: Programació Avança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1.- Mongetes Internàutiques &lt;jre6.1 inside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atró de disseny MV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Potencia de JavaServer P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Bona estructuració de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Fàcilment ampl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· Segure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7:06:31Z</dcterms:created>
  <dc:creator>dai</dc:creator>
  <dc:description/>
  <dc:language>en-US</dc:language>
  <cp:lastModifiedBy>dai</cp:lastModifiedBy>
  <dcterms:modified xsi:type="dcterms:W3CDTF">2008-05-30T18:37:10Z</dcterms:modified>
  <cp:revision>6</cp:revision>
  <dc:subject/>
  <dc:title>Diapositiva 1</dc:title>
</cp:coreProperties>
</file>