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TOPE SOF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SO DE: MS-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4800600" cy="213192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4081320" y="771480"/>
            <a:ext cx="111456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AN ALBA MALDONADO</cp:lastModifiedBy>
  <cp:revision>0</cp:revision>
  <dc:subject> </dc:subject>
  <dc:title>Diapositiva sin título</dc:title>
</cp:coreProperties>
</file>